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8C3-6323-4DF3-866F-F07479CC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440-EBD7-4C5D-B07C-216A3B91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FB3-3B13-42C9-9F74-A483511C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DBF-BB7C-4324-BA56-AEB5537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380-4598-4202-9142-7C606BE6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449-1A1C-40DA-8F14-2D98104E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E40-A86B-4E1C-8034-BF82D78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546-ED4D-488E-AF2E-47A7250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01F-6B6E-4FCC-8C54-76D471C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D46-B556-479E-98F2-0826A35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D85-B297-4FAC-A322-258A2FD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3E0-DDCE-4A55-8470-F7E06381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ELCelje"/>
          <p:cNvPicPr/>
          <p:nvPr/>
        </p:nvPicPr>
        <p:blipFill>
          <a:blip r:embed="rId2"/>
          <a:srcRect l="0" t="0" r="16460" b="0"/>
          <a:stretch/>
        </p:blipFill>
        <p:spPr>
          <a:xfrm>
            <a:off x="5292720" y="1268280"/>
            <a:ext cx="3851280" cy="511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791"/>
                </a:solidFill>
                <a:latin typeface="DINCE-Light"/>
              </a:rPr>
              <a:t>Click to edit the title text format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Click to edit the outline text format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1" marL="577800" indent="-195120">
              <a:spcBef>
                <a:spcPts val="451"/>
              </a:spcBef>
              <a:buClr>
                <a:srgbClr val="005791"/>
              </a:buClr>
              <a:buFont typeface="DINCE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econd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2" marL="949320" indent="-18108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Third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3" marL="133992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Four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4" marL="1719360" indent="-189000">
              <a:spcBef>
                <a:spcPts val="451"/>
              </a:spcBef>
              <a:buClr>
                <a:srgbClr val="005791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Fif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5" marL="1719360" indent="-189000">
              <a:spcBef>
                <a:spcPts val="451"/>
              </a:spcBef>
              <a:buClr>
                <a:srgbClr val="003a9d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ix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6" marL="1719360" indent="-189000">
              <a:spcBef>
                <a:spcPts val="451"/>
              </a:spcBef>
              <a:buClr>
                <a:srgbClr val="003a9d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even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solidFill>
            <a:srgbClr val="005791"/>
          </a:solidFill>
          <a:ln w="9360">
            <a:solidFill>
              <a:srgbClr val="005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pic>
        <p:nvPicPr>
          <p:cNvPr id="4" name="Picture 8" descr="ELCelje_1"/>
          <p:cNvPicPr/>
          <p:nvPr/>
        </p:nvPicPr>
        <p:blipFill>
          <a:blip r:embed="rId3"/>
          <a:stretch/>
        </p:blipFill>
        <p:spPr>
          <a:xfrm>
            <a:off x="468360" y="189000"/>
            <a:ext cx="143964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3DD-D2B3-4C82-8617-7A66AF960F54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Gregor.alauf@elektro-celje.si&#160;" TargetMode="External"/><Relationship Id="rId2" Type="http://schemas.openxmlformats.org/officeDocument/2006/relationships/hyperlink" Target="http://www.elektro-celje.s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2280" y="2276280"/>
            <a:ext cx="7608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5791"/>
                </a:solidFill>
                <a:latin typeface="DINCE-Light"/>
              </a:rPr>
              <a:t>ODSTOPANJA OD VOZNIH REDOV Z</a:t>
            </a:r>
            <a:br>
              <a:rPr sz="3400"/>
            </a:br>
            <a:r>
              <a:rPr b="1" lang="sl-SI" sz="3400" spc="-1" strike="noStrike">
                <a:solidFill>
                  <a:srgbClr val="005791"/>
                </a:solidFill>
                <a:latin typeface="DINCE-Light"/>
              </a:rPr>
              <a:t>15 MINUTNIMI DIAGRAMI</a:t>
            </a:r>
            <a:br>
              <a:rPr sz="3400"/>
            </a:br>
            <a:endParaRPr b="0" lang="en-US" sz="34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69840" y="508464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Gregor Alauf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Sektor za obratovanje in razvoj, Služba DŠM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Celje, november 2018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120" y="16765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16" name="Grafikon 3" descr=""/>
          <p:cNvPicPr/>
          <p:nvPr/>
        </p:nvPicPr>
        <p:blipFill>
          <a:blip r:embed="rId2"/>
          <a:stretch/>
        </p:blipFill>
        <p:spPr>
          <a:xfrm>
            <a:off x="603360" y="1895400"/>
            <a:ext cx="79311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18" name="Označba mesta vsebine 3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800424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ravokotnik 4"/>
          <p:cNvSpPr/>
          <p:nvPr/>
        </p:nvSpPr>
        <p:spPr>
          <a:xfrm>
            <a:off x="259200" y="457524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a9d"/>
                </a:solidFill>
                <a:latin typeface="Times New Roman"/>
              </a:rPr>
              <a:t>=(N5-N1)/(ROW(N5)-ROW(N1))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20" name="Pravokotnik 5"/>
          <p:cNvSpPr/>
          <p:nvPr/>
        </p:nvSpPr>
        <p:spPr>
          <a:xfrm>
            <a:off x="335520" y="5348160"/>
            <a:ext cx="1389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 1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21" name="Pravokotnik 6"/>
          <p:cNvSpPr/>
          <p:nvPr/>
        </p:nvSpPr>
        <p:spPr>
          <a:xfrm>
            <a:off x="2303640" y="5084640"/>
            <a:ext cx="172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 2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22" name="Raven puščični povezovalnik 7"/>
          <p:cNvCxnSpPr/>
          <p:nvPr/>
        </p:nvCxnSpPr>
        <p:spPr>
          <a:xfrm>
            <a:off x="1723680" y="5808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23" name="Pravokotnik 8" descr=""/>
          <p:cNvPicPr/>
          <p:nvPr/>
        </p:nvPicPr>
        <p:blipFill>
          <a:blip r:embed="rId2"/>
          <a:stretch/>
        </p:blipFill>
        <p:spPr>
          <a:xfrm>
            <a:off x="4529160" y="5072040"/>
            <a:ext cx="1743120" cy="2139840"/>
          </a:xfrm>
          <a:prstGeom prst="rect">
            <a:avLst/>
          </a:prstGeom>
          <a:ln w="0">
            <a:noFill/>
          </a:ln>
        </p:spPr>
      </p:pic>
      <p:cxnSp>
        <p:nvCxnSpPr>
          <p:cNvPr id="124" name="Raven puščični povezovalnik 9"/>
          <p:cNvCxnSpPr/>
          <p:nvPr/>
        </p:nvCxnSpPr>
        <p:spPr>
          <a:xfrm>
            <a:off x="3814560" y="5808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25" name="Pravokotnik 15" descr=""/>
          <p:cNvPicPr/>
          <p:nvPr/>
        </p:nvPicPr>
        <p:blipFill>
          <a:blip r:embed="rId3"/>
          <a:stretch/>
        </p:blipFill>
        <p:spPr>
          <a:xfrm>
            <a:off x="6686640" y="5022720"/>
            <a:ext cx="1751040" cy="2347920"/>
          </a:xfrm>
          <a:prstGeom prst="rect">
            <a:avLst/>
          </a:prstGeom>
          <a:ln w="0">
            <a:noFill/>
          </a:ln>
        </p:spPr>
      </p:pic>
      <p:cxnSp>
        <p:nvCxnSpPr>
          <p:cNvPr id="126" name="Raven puščični povezovalnik 16"/>
          <p:cNvCxnSpPr/>
          <p:nvPr/>
        </p:nvCxnSpPr>
        <p:spPr>
          <a:xfrm>
            <a:off x="5976720" y="5754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28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30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041480" y="641520"/>
            <a:ext cx="4537080" cy="1708920"/>
          </a:xfrm>
          <a:prstGeom prst="rect">
            <a:avLst/>
          </a:prstGeom>
          <a:solidFill>
            <a:srgbClr val="00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5791"/>
                </a:solidFill>
                <a:latin typeface="DINCE-Light"/>
              </a:rPr>
              <a:t>Hvala za </a:t>
            </a:r>
            <a:r>
              <a:rPr b="0" lang="sl-SI" sz="3300" spc="-1" strike="noStrike">
                <a:solidFill>
                  <a:srgbClr val="005791"/>
                </a:solidFill>
                <a:latin typeface="DINCE-Light"/>
              </a:rPr>
              <a:t>pozornost</a:t>
            </a:r>
            <a:r>
              <a:rPr b="0" lang="en-US" sz="3300" spc="-1" strike="noStrike">
                <a:solidFill>
                  <a:srgbClr val="005791"/>
                </a:solidFill>
                <a:latin typeface="DINCE-Light"/>
              </a:rPr>
              <a:t>.</a:t>
            </a:r>
            <a:endParaRPr b="0" lang="en-US" sz="33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32" name="Pravokotnik 1"/>
          <p:cNvSpPr/>
          <p:nvPr/>
        </p:nvSpPr>
        <p:spPr>
          <a:xfrm>
            <a:off x="1042920" y="2421000"/>
            <a:ext cx="60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Gregor Alauf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Inženir za dostop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Služba za dostop in števčne meritve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t: 03 42 01 417 |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m: 031 48 38 28 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f: 03 42 01 487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Gregor.alauf@elektro-celje.si </a:t>
            </a: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www.elektro-celje.si</a:t>
            </a: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Elektro Celje, d.d., Vrunčeva 2a, 3000 Celje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BORZEN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https://www.borzen.si/sl/Domov/menu1/Informacije/Novice/Aktualne-novice/ArticleID/579/Javna-obravnava-Pravil-za-delovanje-trga-z-elektriko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86" name="Slika 6" descr=""/>
          <p:cNvPicPr/>
          <p:nvPr/>
        </p:nvPicPr>
        <p:blipFill>
          <a:blip r:embed="rId1"/>
          <a:srcRect l="10624" t="16878" r="29526" b="2480"/>
          <a:stretch/>
        </p:blipFill>
        <p:spPr>
          <a:xfrm>
            <a:off x="1763640" y="2554200"/>
            <a:ext cx="54007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88" name="Označba mesta vsebine 3" descr=""/>
          <p:cNvPicPr/>
          <p:nvPr/>
        </p:nvPicPr>
        <p:blipFill>
          <a:blip r:embed="rId1"/>
          <a:srcRect l="33325" t="29665" r="33376" b="27439"/>
          <a:stretch/>
        </p:blipFill>
        <p:spPr>
          <a:xfrm>
            <a:off x="1763640" y="1771560"/>
            <a:ext cx="583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791"/>
                </a:solidFill>
                <a:latin typeface="DINCE-Light"/>
              </a:rPr>
              <a:t>PRAVILA ZA DELOVANJE TRGA Z ELEKTRIKO 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1" name="Slika 3" descr=""/>
          <p:cNvPicPr/>
          <p:nvPr/>
        </p:nvPicPr>
        <p:blipFill>
          <a:blip r:embed="rId1"/>
          <a:srcRect l="31100" t="45682" r="31100" b="37043"/>
          <a:stretch/>
        </p:blipFill>
        <p:spPr>
          <a:xfrm>
            <a:off x="2050920" y="2708280"/>
            <a:ext cx="4897440" cy="1225440"/>
          </a:xfrm>
          <a:prstGeom prst="rect">
            <a:avLst/>
          </a:prstGeom>
          <a:ln w="0">
            <a:noFill/>
          </a:ln>
        </p:spPr>
      </p:pic>
      <p:pic>
        <p:nvPicPr>
          <p:cNvPr id="92" name="Slika 5" descr=""/>
          <p:cNvPicPr/>
          <p:nvPr/>
        </p:nvPicPr>
        <p:blipFill>
          <a:blip r:embed="rId2"/>
          <a:srcRect l="30313" t="39923" r="31100" b="38480"/>
          <a:stretch/>
        </p:blipFill>
        <p:spPr>
          <a:xfrm>
            <a:off x="1835280" y="4221000"/>
            <a:ext cx="5184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odatki za avgust 2018 - Razlika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4" name="Označba mesta vsebine 3" descr=""/>
          <p:cNvPicPr/>
          <p:nvPr/>
        </p:nvPicPr>
        <p:blipFill>
          <a:blip r:embed="rId1"/>
          <a:stretch/>
        </p:blipFill>
        <p:spPr>
          <a:xfrm>
            <a:off x="579600" y="1908000"/>
            <a:ext cx="7710480" cy="2590920"/>
          </a:xfrm>
          <a:prstGeom prst="rect">
            <a:avLst/>
          </a:prstGeom>
          <a:ln w="0">
            <a:noFill/>
          </a:ln>
        </p:spPr>
      </p:pic>
      <p:pic>
        <p:nvPicPr>
          <p:cNvPr id="95" name="Grafikon 4" descr=""/>
          <p:cNvPicPr/>
          <p:nvPr/>
        </p:nvPicPr>
        <p:blipFill>
          <a:blip r:embed="rId2"/>
          <a:stretch/>
        </p:blipFill>
        <p:spPr>
          <a:xfrm>
            <a:off x="590400" y="4468680"/>
            <a:ext cx="7871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ravila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Velja za vse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Izpadi podatkov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Nadomeščanje podatkov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Jutranji podatki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Reklamacija odstopanj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8" name="Slika 3" descr=""/>
          <p:cNvPicPr/>
          <p:nvPr/>
        </p:nvPicPr>
        <p:blipFill>
          <a:blip r:embed="rId1"/>
          <a:srcRect l="2703" t="11249" r="72163" b="15773"/>
          <a:stretch/>
        </p:blipFill>
        <p:spPr>
          <a:xfrm>
            <a:off x="5181480" y="476280"/>
            <a:ext cx="39610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redlog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0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225440"/>
            <a:ext cx="8004240" cy="3979800"/>
          </a:xfrm>
          <a:prstGeom prst="rect">
            <a:avLst/>
          </a:prstGeom>
          <a:ln w="0">
            <a:noFill/>
          </a:ln>
        </p:spPr>
      </p:pic>
      <p:sp>
        <p:nvSpPr>
          <p:cNvPr id="101" name="Pravokotnik 1"/>
          <p:cNvSpPr/>
          <p:nvPr/>
        </p:nvSpPr>
        <p:spPr>
          <a:xfrm>
            <a:off x="618120" y="5084640"/>
            <a:ext cx="1197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02" name="Pravokotnik 4"/>
          <p:cNvSpPr/>
          <p:nvPr/>
        </p:nvSpPr>
        <p:spPr>
          <a:xfrm>
            <a:off x="2556000" y="503064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03" name="Raven puščični povezovalnik 5"/>
          <p:cNvCxnSpPr/>
          <p:nvPr/>
        </p:nvCxnSpPr>
        <p:spPr>
          <a:xfrm>
            <a:off x="1979280" y="56606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ogrešek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5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1840" y="1320480"/>
            <a:ext cx="8001000" cy="3911400"/>
          </a:xfrm>
          <a:prstGeom prst="rect">
            <a:avLst/>
          </a:prstGeom>
          <a:ln w="0">
            <a:noFill/>
          </a:ln>
        </p:spPr>
      </p:pic>
      <p:pic>
        <p:nvPicPr>
          <p:cNvPr id="108" name="Grafikon 3" descr=""/>
          <p:cNvPicPr/>
          <p:nvPr/>
        </p:nvPicPr>
        <p:blipFill>
          <a:blip r:embed="rId2"/>
          <a:stretch/>
        </p:blipFill>
        <p:spPr>
          <a:xfrm>
            <a:off x="828720" y="1066680"/>
            <a:ext cx="763884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Pravokotnik 4"/>
          <p:cNvSpPr/>
          <p:nvPr/>
        </p:nvSpPr>
        <p:spPr>
          <a:xfrm>
            <a:off x="552960" y="5292720"/>
            <a:ext cx="1389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 1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10" name="Pravokotnik 5"/>
          <p:cNvSpPr/>
          <p:nvPr/>
        </p:nvSpPr>
        <p:spPr>
          <a:xfrm>
            <a:off x="2519280" y="503064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 2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11" name="Raven puščični povezovalnik 6"/>
          <p:cNvCxnSpPr/>
          <p:nvPr/>
        </p:nvCxnSpPr>
        <p:spPr>
          <a:xfrm>
            <a:off x="1941480" y="5754240"/>
            <a:ext cx="43272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12" name="Pravokotnik 7" descr=""/>
          <p:cNvPicPr/>
          <p:nvPr/>
        </p:nvPicPr>
        <p:blipFill>
          <a:blip r:embed="rId3"/>
          <a:stretch/>
        </p:blipFill>
        <p:spPr>
          <a:xfrm>
            <a:off x="4743360" y="5022720"/>
            <a:ext cx="1749600" cy="2133720"/>
          </a:xfrm>
          <a:prstGeom prst="rect">
            <a:avLst/>
          </a:prstGeom>
          <a:ln w="0">
            <a:noFill/>
          </a:ln>
        </p:spPr>
      </p:pic>
      <p:cxnSp>
        <p:nvCxnSpPr>
          <p:cNvPr id="113" name="Raven puščični povezovalnik 8"/>
          <p:cNvCxnSpPr/>
          <p:nvPr/>
        </p:nvCxnSpPr>
        <p:spPr>
          <a:xfrm>
            <a:off x="4032000" y="5754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9:17:17Z</dcterms:created>
  <dc:creator>pc</dc:creator>
  <dc:description/>
  <dc:language>en-US</dc:language>
  <cp:lastModifiedBy>Alauf Gregor</cp:lastModifiedBy>
  <dcterms:modified xsi:type="dcterms:W3CDTF">2018-11-19T07:44:02Z</dcterms:modified>
  <cp:revision>5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SR3VP2KPW45N-232-40</vt:lpwstr>
  </property>
  <property fmtid="{D5CDD505-2E9C-101B-9397-08002B2CF9AE}" pid="3" name="_dlc_DocIdItemGuid">
    <vt:lpwstr>25be39be-9576-49e1-a7e0-592a68284a82</vt:lpwstr>
  </property>
  <property fmtid="{D5CDD505-2E9C-101B-9397-08002B2CF9AE}" pid="4" name="_dlc_DocIdUrl">
    <vt:lpwstr>http://ec/sor/_layouts/15/DocIdRedir.aspx?ID=SR3VP2KPW45N-232-40, SR3VP2KPW45N-232-40</vt:lpwstr>
  </property>
</Properties>
</file>